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69E2-73C5-45F4-A4C7-79DC34C58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4132-5F98-48CF-AC8A-BDA58D991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204-1316-4AE4-87BB-D5C66483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9C8-131D-42D0-8391-C244D008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579-4992-4DFA-9D9E-733BBE47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F6EC-CD75-4251-B4EE-9C2AFB9C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7C2D-5D25-41DE-9EEE-D676853A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79C-E8B9-41E4-A752-BB192432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ADE-8262-4932-91CF-9897768B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3251-853C-4B7F-9EA9-CE7FAAEE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8304-E00D-4047-BC49-328576F9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047-240A-48F5-8DFB-49251BB0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87A-0554-4438-88D4-3EC8B085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EE2-8084-4A12-BB74-205A1D10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AC4C-0C03-447F-8A3D-36A88E80B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ra Mucollar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ara Mucoll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ara Mucollar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ara Mucollar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ara Mucollar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Sara. Yo vivo en la ciudad de New York. Tengo 14 años. Yo tengo dos hermano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25456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2545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254560"/>
            <a:ext cx="439560" cy="6336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657600"/>
            <a:ext cx="38098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124080"/>
            <a:ext cx="3809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, bien una tu puedes comer pizza?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09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Como estas? También, si usted venir traer                                                                                     Sar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1148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iero ir en el sábado?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45720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ónde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5257800"/>
            <a:ext cx="3962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odemos ir a Papá Johns?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én quiere comer pizz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2743200" y="5867280"/>
            <a:ext cx="3962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2743200" y="6400800"/>
            <a:ext cx="3962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, nosotras yendo en la pizzería mañana. Ciao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8:38Z</dcterms:created>
  <dc:creator>FriscoISD</dc:creator>
  <dc:description/>
  <dc:language>en-US</dc:language>
  <cp:lastModifiedBy>User</cp:lastModifiedBy>
  <dcterms:modified xsi:type="dcterms:W3CDTF">2013-01-02T14:06:46Z</dcterms:modified>
  <cp:revision>107</cp:revision>
  <dc:subject/>
  <dc:title>Profile</dc:title>
</cp:coreProperties>
</file>